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7FD-FAF3-418F-87A3-4957F327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C52-C334-4058-AAFD-7442E20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CC7-CCAF-4F30-9C4A-E949D052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8F6-E82F-4910-BAB3-01E46705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B5E-3F1F-4CE3-BBB0-B761247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743-5624-4EB5-8F2D-87E803E5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88C-2BBF-40C4-A3B8-732597EA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FBF-143B-4CAD-BBA1-F8638C0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22E-C172-41C9-871A-F150936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D77-ED26-41EE-8187-10298C3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B35-1CEB-406F-ADB1-7F99DF9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8F5-E9F4-4F12-A1F3-563434B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7CE8-0CBB-4A3A-A49A-58714E693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, Mr. O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54:53Z</dcterms:created>
  <dc:creator>Plantation Middle School</dc:creator>
  <dc:description/>
  <dc:language>en-US</dc:language>
  <cp:lastModifiedBy>Plantation Middle School</cp:lastModifiedBy>
  <dcterms:modified xsi:type="dcterms:W3CDTF">2009-09-08T18:56:32Z</dcterms:modified>
  <cp:revision>1</cp:revision>
  <dc:subject/>
  <dc:title>Our Goals</dc:title>
</cp:coreProperties>
</file>